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B2A-D0A8-43BC-8AC7-B6B4FBE0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259-058D-48B7-8B61-EE57205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397-9BF6-455D-B262-FD2FE35F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B93-6ADB-4404-BCFC-06F4A41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EE7-D2C5-4C9B-8E55-5D3070D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4CC-2822-4F5E-B828-BD0124F6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BF6-529A-470B-AD43-AF382C0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86D-6EDC-4E00-A0B6-6B83263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0EC-F54D-4C9F-A425-8FD0C218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174-67AE-4950-B847-D6D0B09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A69-98D0-424E-876F-D9FF7E8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4A7-D21E-4E51-889A-85B7190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061-BEF1-4755-8182-2591356C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va.rambler.ru/pic_cache?url=http%3A//www.paneuro.ru/main/moscow/3.html&amp;bi=http%3A//www.paneuro.ru/pics/s/img_200562_17mn38s26mls142.jpg&amp;i=http%3A//media5.picsearch.com/is%3FSr5X1NPs5TnZ_-AR2K-Rqw808FAUOdZeCZ36ZDMPEdA&amp;w=128&amp;h=85&amp;f=14&amp;q=&#1050;&#1088;&#1077;&#1084;&#1083;&#1100;&amp;p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hyperlink" Target="http://nova.rambler.ru/pic_cache?url=http%3A//gotovim-doma.ru/view.php%3Fr%3D312&amp;bi=http%3A//gotovim-doma.ru/img/img0312_3.jpg&amp;i=http%3A//media1.picsearch.com/is%3F6Sw0HSki6-QJ-NahiQ36f5kjtKfnMdwPa-WdI9OCEK0&amp;w=128&amp;h=85&amp;f=30&amp;q=&#1089;&#1077;&#1088;&#1076;&#1094;&#1077;&amp;p=5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295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0400" y="1371600"/>
            <a:ext cx="5676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мастер-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971800"/>
            <a:ext cx="685800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низ Зуриет Заурби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есто работы – МОУ «Средняя общеобразовательная школа №1 им.Ю.К.Намитокова»,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.Понежукай, Теучеж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едмет –адыгейский язык и 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олжность – уч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таж – 13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ряд –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вания и наград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победитель конкурса лучших учителей РФ в рамках ПНП «Образование», Почетный работник общего образования Российской Федер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7037" r="0" b="21041"/>
          <a:stretch/>
        </p:blipFill>
        <p:spPr>
          <a:xfrm>
            <a:off x="152280" y="228600"/>
            <a:ext cx="3024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63880" cy="16002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430280" cy="1989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67480" y="3956040"/>
            <a:ext cx="1432080" cy="290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86200" y="4724280"/>
            <a:ext cx="1752480" cy="1981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52280" y="5181480"/>
            <a:ext cx="2057400" cy="1524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71640" y="1484280"/>
            <a:ext cx="7632720" cy="23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экъошныгъ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Times New Roman"/>
              </a:rPr>
              <a:t>Зэкъошит1у язек1уак1э зэфэд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5493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12000" y="4346640"/>
            <a:ext cx="1187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2920" y="4346640"/>
            <a:ext cx="1189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4346640"/>
            <a:ext cx="1187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346640"/>
            <a:ext cx="11876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8920" y="4346640"/>
            <a:ext cx="1189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346640"/>
            <a:ext cx="1187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12000" y="332100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2920" y="3321000"/>
            <a:ext cx="1189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5640" y="332100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321000"/>
            <a:ext cx="118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3357720"/>
            <a:ext cx="118908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332100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12000" y="2293920"/>
            <a:ext cx="11872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2920" y="2293920"/>
            <a:ext cx="11890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35640" y="2293920"/>
            <a:ext cx="11872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293920"/>
            <a:ext cx="11876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8920" y="2293920"/>
            <a:ext cx="11890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293920"/>
            <a:ext cx="11872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12000" y="126828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1268280"/>
            <a:ext cx="1189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5640" y="126828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268280"/>
            <a:ext cx="118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58920" y="1268280"/>
            <a:ext cx="11890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268280"/>
            <a:ext cx="11872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68280"/>
            <a:ext cx="7127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5351400"/>
            <a:ext cx="7127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9928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2293920"/>
            <a:ext cx="7127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5892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564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292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12000" y="1268280"/>
            <a:ext cx="0" cy="4083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3284640"/>
            <a:ext cx="7127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346640"/>
            <a:ext cx="7127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56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0.0)">
                                      <p:cBhvr>
                                        <p:cTn id="25" dur="1508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0.07882 -0.58796 E">
                                      <p:cBhvr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0.10452 -0.61643 E">
                                      <p:cBhvr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0.00139 L 0.27361 -0.46342 E">
                                      <p:cBhvr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3.7037E-007 L 0.44098 -0.29398 E">
                                      <p:cBhvr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пфэраз, Урысыер!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энэ Къырымы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сэу, отэ1о о, Урысы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ыгъу-п1астэр Моск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ъыщытпагъох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щызэращэ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апл1ык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ысы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1апэ пытэ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ъеубы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зэкъошныгъи лъэшэ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эпыт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1511280" cy="809280"/>
          </a:xfrm>
          <a:prstGeom prst="rect">
            <a:avLst/>
          </a:prstGeom>
          <a:ln w="0">
            <a:noFill/>
          </a:ln>
        </p:spPr>
      </p:pic>
      <p:pic>
        <p:nvPicPr>
          <p:cNvPr id="93" name="i" descr=" "/>
          <p:cNvPicPr/>
          <p:nvPr/>
        </p:nvPicPr>
        <p:blipFill>
          <a:blip r:embed="rId3"/>
          <a:stretch/>
        </p:blipFill>
        <p:spPr>
          <a:xfrm>
            <a:off x="3132000" y="1197000"/>
            <a:ext cx="1871640" cy="64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2970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щ пай тыпфэраз о, Урысы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сэу отэ1о о, Урысы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ыгэ х         картымк1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1ык1у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 зыщыщ    Россиер         нэ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эмыплъ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1уми агухэ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ъызэдыте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ъогу нэфи тыгъэ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ъэлъагъ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20574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11280" y="49417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916" t="1809" r="16669" b="13585"/>
          <a:stretch/>
        </p:blipFill>
        <p:spPr>
          <a:xfrm>
            <a:off x="539640" y="1628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i" descr=" "/>
          <p:cNvPicPr/>
          <p:nvPr/>
        </p:nvPicPr>
        <p:blipFill>
          <a:blip r:embed="rId4"/>
          <a:stretch/>
        </p:blipFill>
        <p:spPr>
          <a:xfrm>
            <a:off x="3492360" y="189000"/>
            <a:ext cx="1800360" cy="792000"/>
          </a:xfrm>
          <a:prstGeom prst="rect">
            <a:avLst/>
          </a:prstGeom>
          <a:ln w="0">
            <a:noFill/>
          </a:ln>
        </p:spPr>
      </p:pic>
      <p:pic>
        <p:nvPicPr>
          <p:cNvPr id="101" name="i" descr=" "/>
          <p:cNvPicPr/>
          <p:nvPr/>
        </p:nvPicPr>
        <p:blipFill>
          <a:blip r:embed="rId5"/>
          <a:stretch/>
        </p:blipFill>
        <p:spPr>
          <a:xfrm>
            <a:off x="2700360" y="1052640"/>
            <a:ext cx="1800360" cy="79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47640" y="4149720"/>
            <a:ext cx="12193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ыпфэраз, Урысые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сэу, отэ1о о, Урысы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ыгъу-п1астэр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ъыщытпагъох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апл1ыкъорэгък1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щызэращэ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ысым т1апэ пытэ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ъеубы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зэкъошыныгъи лъэшэ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эпыт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щ пай тыпфэраз о, Урысы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сэу отэ1о о, Урысы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ыгэ хэкур картымк1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1ык1у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 зыщыщ Россиер нэ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эмыплъ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1уми агухэр къызэдыте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ъогу нэфи тыгъэ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ъэлъагъ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5280" y="1341360"/>
            <a:ext cx="550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Адыгэр! Россием о урик1ас,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Зэрэ Урысыеу ори уик1ас.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                               Жэнэ Къ.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538440" cy="5977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7:53:14Z</dcterms:created>
  <dc:creator>Евгений</dc:creator>
  <dc:description/>
  <dc:language>en-US</dc:language>
  <cp:lastModifiedBy>rustam</cp:lastModifiedBy>
  <dcterms:modified xsi:type="dcterms:W3CDTF">2009-11-03T13:06:17Z</dcterms:modified>
  <cp:revision>28</cp:revision>
  <dc:subject/>
  <dc:title>Слайд 1</dc:title>
</cp:coreProperties>
</file>