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0F7-B786-4857-8121-229DF96F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508-4A11-47A7-AF04-B8C11065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CAF5-C0BA-45A7-8923-70B023EF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3EC-967C-41F3-B50F-7C1E2F85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8A70D-47CB-40B0-BF96-721B43D6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762D4-BAFF-4F96-868E-1F6B1DFC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8B0C4-972D-47FB-A81C-C7F02D9B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7843A-E08F-4F5E-AD43-08C55A42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D3346-EAA6-4D32-9461-7A00E30F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AFF62-73A8-4DA8-A7E4-C6CD7224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B1AB8-B746-41C1-A7D9-58401029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4F32-9F1F-4AD0-A790-D0781322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C0B9B-4397-4AA2-A81A-306D58D0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7992E-337E-4D65-84D4-A2D8125A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EE002-B3BF-425D-9822-655C5B0A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44B21-9C99-46A1-87DF-FD1743F7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BF5C5-BCCA-4A0F-B563-F2E1D498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13E-9428-4FBF-9DBF-AA0C82A6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CCC-93EB-4BDF-8665-D38F5B3C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F138-E79B-4027-9887-8F191C8C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2222-E4EC-4A35-9E1D-F1BABC62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C73A-851B-44CB-9710-2422402E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808C-F8CE-4019-82F1-E2077D02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FA6-CBC5-47CA-A0A1-F9C6EB74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DE4C-8599-411C-A7DD-6D5E21412E7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2F02-BCBD-4FC7-B71D-0E40575851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0" t="7037" r="0" b="21041"/>
          <a:stretch/>
        </p:blipFill>
        <p:spPr>
          <a:xfrm>
            <a:off x="2895480" y="762120"/>
            <a:ext cx="3024360" cy="2879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8360" y="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учение русскому языку учащихся адыгейской национальной шко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3789360"/>
            <a:ext cx="7993080" cy="28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низ Зуриет Заурбиев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есто работы – МОУ «Средняя общеобразовательная школа №1 им.Ю.К.Намитокова» а.Понежукай, Теучежский райо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едмет – русский язы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олжность – учител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таж – 11 л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азряд – 1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вания и награды – кандидат педагогических нау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549360"/>
            <a:ext cx="770400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Лингводидактические принцип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принцип учета родного языка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принцип комплексности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принцип коммуникативной направлен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404640"/>
            <a:ext cx="835344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Обучение русскому языку как средству общения предполагает</a:t>
            </a: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обучение частноречевым навыкам и умением – обучение средствами языка и навыкам владения ими в учебной деятельности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обучение общеречевым умениям и навыкам – обучение владению видами речевой деятельности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обучение коммуникативным навыкам – т.е. обучение собственно общению в условиях ситуации общения. 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404640"/>
            <a:ext cx="8424720" cy="57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Задачи обучающего эксперимента</a:t>
            </a: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Определить, насколько предлагаемая система упражнений способствует повышению уровня развития речевых и коммуникативных умений и навыков учащихся 5 – 7 класс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роверить эффективность отобранных текстов, их содержательную, языковую и структурную характеристик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роверить эффективность комплексной работы над текстом в речевом развитии учащихся  5 – 7 классов на основе взаимосвязанного изучения морфологии и синтаксиса</a:t>
            </a: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Выяснить, в какой мере опора на родной язык учащихся положительно влияет на формирование навыков построения микротекста и развитие устной речи учащихся 5 – 7 кла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4920" y="0"/>
          <a:ext cx="9109080" cy="7143840"/>
        </p:xfrm>
        <a:graphic>
          <a:graphicData uri="http://schemas.openxmlformats.org/drawingml/2006/table">
            <a:tbl>
              <a:tblPr/>
              <a:tblGrid>
                <a:gridCol w="2014560"/>
                <a:gridCol w="669960"/>
                <a:gridCol w="1798560"/>
                <a:gridCol w="1797120"/>
                <a:gridCol w="2828880"/>
              </a:tblGrid>
              <a:tr h="119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ж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учащихся, выполнивших задание 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Подберите синонимы к словам с прямым и переносным значени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равилис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устили ошиб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справилис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Подберите антонимы к различным значениям данных многозначных сл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равилис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устили ошиб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Составьте предложение из данных сл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равилис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устили ошиб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115920"/>
          <a:ext cx="9144000" cy="6505560"/>
        </p:xfrm>
        <a:graphic>
          <a:graphicData uri="http://schemas.openxmlformats.org/drawingml/2006/table">
            <a:tbl>
              <a:tblPr/>
              <a:tblGrid>
                <a:gridCol w="1847880"/>
                <a:gridCol w="690480"/>
                <a:gridCol w="1849320"/>
                <a:gridCol w="1847880"/>
                <a:gridCol w="2908440"/>
              </a:tblGrid>
              <a:tr h="84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справилис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Составьте предложения из данных словосочета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равилис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устили ошиб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справилис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Восстановите необходимый порядок предложений в текс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равилис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устили ошиб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справилис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Переведите текст с адыгейского языка на рус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равилис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устили ошиб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620640"/>
            <a:ext cx="84978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Georgia"/>
              </a:rPr>
              <a:t>Людей неинтересных нет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Georgia"/>
              </a:rPr>
              <a:t>Их судьбы – как история планет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Georgia"/>
              </a:rPr>
              <a:t>У каждой все особое, сво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Georgia"/>
              </a:rPr>
              <a:t>И нет планет, похожих на не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                       </a:t>
            </a:r>
            <a:r>
              <a:rPr b="1" lang="ru-RU" sz="3500" spc="-1" strike="noStrike">
                <a:solidFill>
                  <a:srgbClr val="ffffff"/>
                </a:solidFill>
                <a:latin typeface="Georgia"/>
              </a:rPr>
              <a:t>                     </a:t>
            </a:r>
            <a:r>
              <a:rPr b="1" lang="ru-RU" sz="3500" spc="-1" strike="noStrike">
                <a:solidFill>
                  <a:srgbClr val="ffffff"/>
                </a:solidFill>
                <a:latin typeface="Georgia"/>
              </a:rPr>
              <a:t>Е.Евтушенко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9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Georgia"/>
              </a:rPr>
              <a:t>Нетрадиционные формы организации урока</a:t>
            </a: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Georgia"/>
              </a:rPr>
              <a:t>Урок взаимообучения учащихся. Характерные особенности урока – групповая работа над материалом, усвоение его на уроке (без домашних заданий), взаимопомощь и взаимоответственность учащихся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Georgia"/>
              </a:rPr>
              <a:t>Урок творчества. Эти уроки проводятся в классах  с сильным составом учащихся. Занятие планируется как повествовательно – обобщающее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Georgia"/>
              </a:rPr>
              <a:t>Урок – диспут. На этих уроках можно повторить и изучить новый материал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Georgia"/>
              </a:rPr>
              <a:t>Урок – экскурсия. Проводится после изучения темы. Цель урока – повторение материала, развитие внимания и критического мышления. В содержание лекции учитель включает ошибочные сведения, противоречивые утверждения, неточности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Georgia"/>
              </a:rPr>
              <a:t>Урок – деловые игры. В процессе игры у учащихся возникает потребность в получении и расширении своих знаний, которые становятся действенными, а сам процесс обучеия становится активным и творческим, одновременно значимым и привлекательным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Georgia"/>
              </a:rPr>
              <a:t>Уроки типа КВН и т.д.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762120"/>
            <a:ext cx="84582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мпью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еративное средство наглядности в обучен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мощни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в отработке практических умений учащихс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в организации и проведении опроса и контроля школьн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в организации контроля и оценки домашних зада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в работе со схемами, таблицами и т.д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в редактировании текстов и исправлении ошибок в творческих работах учащих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3808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60948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143000"/>
            <a:ext cx="8610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ользовать ПК в процессе обучения можно с различными целя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объяснения нового с целью максимального усвоения материа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оптимального закрепления пройденного материа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улучшения контроля и самоконтроля уче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42920" y="0"/>
            <a:ext cx="6913800" cy="70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Я пришел к тебе с приветом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Рассказать, что солнце встал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Что оно горячим свет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По листам затрепетало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Рассказать, что лес проснулся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Весь проснулся, веткой каждо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Каждой птицей встрепенул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И весенней полон жаждо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Рассказать, что стой же страстью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Как вчера, пришел я снов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Что душа все так же счасть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И тебе служить гото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Рассказать, что отовсюд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На меня весельем вее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Что не знаю сам, что буд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Петь, - но только песня зре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А.А.Фет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9640" y="765000"/>
            <a:ext cx="820908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Основная задача национальной школ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повышение эффективности обучения русскому языку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обеспечение практического владения русским языком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общение на русском языке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952880" y="152280"/>
            <a:ext cx="2473560" cy="2513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6501" t="0" r="10394" b="8289"/>
          <a:stretch/>
        </p:blipFill>
        <p:spPr>
          <a:xfrm>
            <a:off x="3048120" y="2743200"/>
            <a:ext cx="5959440" cy="3745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2743200" cy="3505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403848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усский поэт Афанасий Афанасьевич Ф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0360" y="6491160"/>
            <a:ext cx="73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звестный художник Исаак Левитан и его картина «Мар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49360"/>
            <a:ext cx="4103640" cy="12819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Названия однородных предметов(явлений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4508640"/>
            <a:ext cx="2736720" cy="15721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э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удож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р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1989000"/>
            <a:ext cx="0" cy="2448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3280" y="549360"/>
            <a:ext cx="4500720" cy="12819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Названия единичных(отдельных) предмет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4581360"/>
            <a:ext cx="4392720" cy="1432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Афанасий Афанасьевич Фе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Исаак Левита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картина «Март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1989000"/>
            <a:ext cx="0" cy="251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14400" y="228600"/>
            <a:ext cx="7056360" cy="398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мена существите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600200"/>
            <a:ext cx="3168720" cy="862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рицатель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со строчной букв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692000" y="692280"/>
            <a:ext cx="1150920" cy="93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1447920"/>
            <a:ext cx="3816360" cy="862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бстве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с прописной букв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692280"/>
            <a:ext cx="533520" cy="75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3500280"/>
            <a:ext cx="2735280" cy="2311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м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т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амил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еографические наз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лички живо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835280" y="2362320"/>
            <a:ext cx="372744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2743200"/>
            <a:ext cx="3743280" cy="3980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зв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итературных произвед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сторических событ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р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инофильм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пектак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едприят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журналов, газет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заключаются в кавычк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2362320"/>
            <a:ext cx="41400" cy="40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19320" y="228600"/>
            <a:ext cx="6337080" cy="16084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спределите слова в две колонки: в одну – с разделительным ъ, а в другую - с разделительным 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еревья, разъезд, вьюга, воробьи, объясню, съежился, предъюбилейный, серьез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11280" y="3357720"/>
          <a:ext cx="7345440" cy="3163680"/>
        </p:xfrm>
        <a:graphic>
          <a:graphicData uri="http://schemas.openxmlformats.org/drawingml/2006/table">
            <a:tbl>
              <a:tblPr/>
              <a:tblGrid>
                <a:gridCol w="3673440"/>
                <a:gridCol w="367200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лова с разделительным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Ъ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лова с разделительным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635280" y="1844640"/>
            <a:ext cx="1079640" cy="1368360"/>
          </a:xfrm>
          <a:prstGeom prst="downArrow">
            <a:avLst>
              <a:gd name="adj1" fmla="val 50000"/>
              <a:gd name="adj2" fmla="val 31686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71640" y="404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зделительные Ъ и 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03280" y="907920"/>
            <a:ext cx="6121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844640"/>
            <a:ext cx="4211640" cy="2314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лова с разделительным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Ъ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зъез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ъясн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ъежил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дъюбилей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339640" y="981000"/>
            <a:ext cx="64764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59280" y="1844640"/>
            <a:ext cx="4284720" cy="2314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лова с разделительным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Ь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рев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ью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оробь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ерьез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981000"/>
            <a:ext cx="792360" cy="792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26920" y="476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делительные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Ъ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6000" y="981000"/>
            <a:ext cx="40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362320"/>
            <a:ext cx="8636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2276640"/>
            <a:ext cx="792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0" spc="-1" strike="noStrike">
                <a:solidFill>
                  <a:srgbClr val="ffffff"/>
                </a:solidFill>
                <a:latin typeface="Tahoma"/>
              </a:rPr>
              <a:t>Ъ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187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ез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ясн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ежил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юбилей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050560" y="1197000"/>
            <a:ext cx="151308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8360" y="2276640"/>
            <a:ext cx="10792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р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оро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27640" y="2133720"/>
            <a:ext cx="11509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0" spc="-1" strike="noStrike">
                <a:solidFill>
                  <a:srgbClr val="ffffff"/>
                </a:solidFill>
                <a:latin typeface="Tahoma"/>
              </a:rPr>
              <a:t>Ь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96360" y="2276640"/>
            <a:ext cx="1331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ю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ез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1197000"/>
            <a:ext cx="129708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0"/>
            <a:ext cx="756144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К данным словам подберите и запишите антонимы с приставками на з-с. Используйте алгоритм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лезный, порядок, сознательно, закат, разрушать, забывать, всесильный, завязка, незнакомый, появлять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895480"/>
            <a:ext cx="8458200" cy="306432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лгоритм рабо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дберите антон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ясните, глухой или звонкий звук обозначает буква, стоящая после пристав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соответствии с правилом определите, какая буква пишется на конце пристав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верьте работу по ключ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цените свою рабо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380880"/>
            <a:ext cx="6191280" cy="58838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лю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есполез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еспоряд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ессознате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с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здвиг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спомин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есси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яз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звест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счез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097080" cy="2735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3319200" cy="2737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68360" y="3618000"/>
            <a:ext cx="3095640" cy="2979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859280" y="3573360"/>
            <a:ext cx="3240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00000" y="1125360"/>
            <a:ext cx="7704360" cy="39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Обучение русскому языку в школе способствует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развитию творческой активности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мышления учащихся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пробуждает интерес к слову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9640" y="1052640"/>
            <a:ext cx="813600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Надо учитывать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способность учащегося понимать слова и выражения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способность употреблять слава, их формы, словосочетания и предложе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620640"/>
            <a:ext cx="756144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Современная практика работы по развитию речи в школе опирается н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связь работы по развитию речи с развитием мышления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взаимосвязь устной и письменной речи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развитие навыков связной реч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52640"/>
            <a:ext cx="9144000" cy="35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Основной задачей обучения русскому языку в национальной школе являетс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развитие речи учащихся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привитие школьникам  навыков общения на русском языке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49360"/>
            <a:ext cx="91440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В обучении неродному языку выделяются два момент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изучение языка для познания его фонетической и лексико-грамматической структуры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обучение речи для общения на данном языке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476280"/>
            <a:ext cx="770400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Были поставлены следящие задач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выявить состояние развития устной русской речи учащихся 5 – 7 классов</a:t>
            </a: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выявить типичные ошибки, допускаемые учащимися в их русской речи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на основе анализа допущенных ошибок выявить трудности, возникающие в процессе работы по развитию устной русской речи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сравнить уровень развития устной и письменной речи.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360" y="476280"/>
            <a:ext cx="76327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частые паузы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незаконченные предложения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бедность словаря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нарушение последовательности предложений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употребление лишних слов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повторение одних и тех же слов в контексте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Georgia"/>
              </a:rPr>
              <a:t>однообразие синтаксических конструкций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5:21:24Z</dcterms:created>
  <dc:creator>А.С.Хадагатле</dc:creator>
  <dc:description/>
  <dc:language>en-US</dc:language>
  <cp:lastModifiedBy>UserXP</cp:lastModifiedBy>
  <dcterms:modified xsi:type="dcterms:W3CDTF">2007-09-23T14:12:49Z</dcterms:modified>
  <cp:revision>41</cp:revision>
  <dc:subject/>
  <dc:title>Презе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